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2.jpeg" ContentType="image/jpeg"/>
  <Override PartName="/ppt/media/image13.png" ContentType="image/png"/>
  <Override PartName="/ppt/media/image16.gif" ContentType="image/gif"/>
  <Override PartName="/ppt/media/image14.png" ContentType="image/png"/>
  <Override PartName="/ppt/media/image5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1.jpeg" ContentType="image/jpeg"/>
  <Override PartName="/ppt/media/image4.gif" ContentType="image/gif"/>
  <Override PartName="/ppt/media/image10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6BAA-2C4F-43A6-AF21-B97A56422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3AC8-38ED-4C43-ADE9-4C2239A83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82E8-F166-4553-BF1B-8B7A2D956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12A4-AEC6-4E1F-A7A3-59E10A0E8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89C9-43E1-40CF-8AD2-5D5E62890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E84E-3A5E-430E-849D-F6C073E7D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BE05-8DC2-4039-BD32-E596A5E32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00B5-1553-4FEB-B0D5-DC1A0D4EC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3320-5718-491F-9F3D-92DCB0B9D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A474-0BB8-48F9-B4C3-504B44D33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467F-5562-41C4-9691-2DE293F73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33AF-C56A-431F-AE1E-7794B8C04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804C3-1C33-4B3E-9C3A-40722BD13BE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2" descr="Рисунок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Прямоугольник 3"/>
          <p:cNvSpPr/>
          <p:nvPr/>
        </p:nvSpPr>
        <p:spPr>
          <a:xfrm>
            <a:off x="1523880" y="762120"/>
            <a:ext cx="586764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лезный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туральный мёд</a:t>
            </a:r>
            <a:r>
              <a:rPr b="1" lang="ru-RU" sz="5000" spc="-1" strike="noStrike">
                <a:solidFill>
                  <a:srgbClr val="b12d13"/>
                </a:solidFill>
                <a:latin typeface="Times New Roman"/>
                <a:ea typeface="Times New Roman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4"/>
          <p:cNvSpPr/>
          <p:nvPr/>
        </p:nvSpPr>
        <p:spPr>
          <a:xfrm>
            <a:off x="1042920" y="2492280"/>
            <a:ext cx="7796160" cy="15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"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d0d0d"/>
                </a:solidFill>
                <a:latin typeface="Calibri"/>
                <a:ea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0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d0d0d"/>
                </a:solidFill>
                <a:latin typeface="Calibri"/>
                <a:ea typeface="Arial"/>
              </a:rPr>
              <a:t>                              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4494240" indent="-348768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d0d0d"/>
                </a:solidFill>
                <a:latin typeface="Calibri"/>
                <a:ea typeface="Arial"/>
              </a:rPr>
              <a:t>                          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4494240" indent="-348768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"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990000"/>
                </a:solidFill>
                <a:latin typeface="Calibri"/>
                <a:ea typeface="Arial"/>
              </a:rPr>
              <a:t>                       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6"/>
          <p:cNvSpPr/>
          <p:nvPr/>
        </p:nvSpPr>
        <p:spPr>
          <a:xfrm>
            <a:off x="5148360" y="3357720"/>
            <a:ext cx="3095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ла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танова Варвара Анатол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А класса МБОУ КГО Гимназ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. руководитель: Тагакова Людмила Анатольевн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ма: Чертанова Юл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ександ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2669040" y="-457920"/>
            <a:ext cx="38062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МБОУ КГО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Гимназ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учная конференция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Мои первые открытия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Рисунок 2" descr="Рисунок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 Black"/>
              </a:rPr>
              <a:t>Вывод:</a:t>
            </a:r>
            <a:r>
              <a:rPr b="1" i="1" lang="ru-RU" sz="4000" spc="-1" strike="noStrike">
                <a:solidFill>
                  <a:srgbClr val="ff0000"/>
                </a:solidFill>
                <a:latin typeface="Arial Black"/>
              </a:rPr>
              <a:t> </a:t>
            </a:r>
            <a:br>
              <a:rPr sz="2800"/>
            </a:b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Моя гипотеза подтвердилась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.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Эти опыты работают, можно при помощи них проверить качество мёда.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Эта работа, надеюсь, заинтересует моих друзей, и они будут проверять мёд, купленный родителями. </a:t>
            </a:r>
            <a:br>
              <a:rPr sz="3600"/>
            </a:br>
            <a:br>
              <a:rPr sz="2800"/>
            </a:br>
            <a:r>
              <a:rPr b="1" lang="ru-RU" sz="3000" spc="-1" strike="noStrike">
                <a:solidFill>
                  <a:srgbClr val="ff0000"/>
                </a:solidFill>
                <a:latin typeface="Calibri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Прямоугольник 6"/>
          <p:cNvSpPr/>
          <p:nvPr/>
        </p:nvSpPr>
        <p:spPr>
          <a:xfrm>
            <a:off x="6156360" y="3105000"/>
            <a:ext cx="25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0" descr="dis2"/>
          <p:cNvPicPr/>
          <p:nvPr/>
        </p:nvPicPr>
        <p:blipFill>
          <a:blip r:embed="rId2"/>
          <a:stretch/>
        </p:blipFill>
        <p:spPr>
          <a:xfrm>
            <a:off x="179280" y="4724280"/>
            <a:ext cx="1646280" cy="1976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2" descr="Рисунок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Цель работы:</a:t>
            </a:r>
            <a:br>
              <a:rPr sz="40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казать и научить выбирать настоящий натуральный мёд.</a:t>
            </a:r>
            <a:br>
              <a:rPr sz="28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Задачи: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.Выяснить, как  живут и работают пчелы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. Выяснить строение пчелы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. Выяснить процесс получения меда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. Произвести опыты с медом</a:t>
            </a:r>
            <a:br>
              <a:rPr sz="2800"/>
            </a:br>
            <a:br>
              <a:rPr sz="28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2" descr="Рисунок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2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Гипотеза: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пчела - великая труженица, приносящая неоценимую пользу и здоровье людям, если я проведу исследование, изучу литературу, то узнаю всё о пчёлах и мёде, смогу дать полезные советы друзья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едмет исследовани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:  продукт пчеловодства -  мёд.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бъект исследования: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жизнедеятельность пчё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2" descr="Рисунок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2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жидаемый результат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мои исследования расширят мой кругозор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помогут узнать всё о пчелах и продуктах пчеловодства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смогу дать практические советы, как купить настоящий мёд, а не подделку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522000"/>
            <a:ext cx="8229600" cy="20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Сообщество состоит из единственной матки, нескольких десятков тысяч рабочих пчёл и нескольких сотен трутней</a:t>
            </a:r>
            <a:br>
              <a:rPr sz="3200"/>
            </a:b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124000" y="4149720"/>
            <a:ext cx="194328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Строение пчел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Содержимое 5" descr="pchelinaya-semya-580x251.jpg"/>
          <p:cNvPicPr/>
          <p:nvPr/>
        </p:nvPicPr>
        <p:blipFill>
          <a:blip r:embed="rId1"/>
          <a:stretch/>
        </p:blipFill>
        <p:spPr>
          <a:xfrm>
            <a:off x="2124000" y="1459080"/>
            <a:ext cx="5112000" cy="22111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C:\Users\111\Desktop\картинки мёд\Smailik_pchelka_letit.gif"/>
          <p:cNvPicPr/>
          <p:nvPr/>
        </p:nvPicPr>
        <p:blipFill>
          <a:blip r:embed="rId2"/>
          <a:stretch/>
        </p:blipFill>
        <p:spPr>
          <a:xfrm>
            <a:off x="8337600" y="5877000"/>
            <a:ext cx="806400" cy="708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C:\Users\111\Desktop\картинки мёд\Smailik_pchelka_letit.gif"/>
          <p:cNvPicPr/>
          <p:nvPr/>
        </p:nvPicPr>
        <p:blipFill>
          <a:blip r:embed="rId3"/>
          <a:stretch/>
        </p:blipFill>
        <p:spPr>
          <a:xfrm>
            <a:off x="2340000" y="5950080"/>
            <a:ext cx="806400" cy="7077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C:\Users\111\Desktop\картинки мёд\Smailik_pchelka_letit.gif"/>
          <p:cNvPicPr/>
          <p:nvPr/>
        </p:nvPicPr>
        <p:blipFill>
          <a:blip r:embed="rId4"/>
          <a:stretch/>
        </p:blipFill>
        <p:spPr>
          <a:xfrm>
            <a:off x="250920" y="981000"/>
            <a:ext cx="806400" cy="70812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2" descr=""/>
          <p:cNvPicPr/>
          <p:nvPr/>
        </p:nvPicPr>
        <p:blipFill>
          <a:blip r:embed="rId5"/>
          <a:stretch/>
        </p:blipFill>
        <p:spPr>
          <a:xfrm>
            <a:off x="4552920" y="3952800"/>
            <a:ext cx="3541680" cy="248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Рисунок 3" descr="Рисунок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68360" y="907560"/>
            <a:ext cx="8136000" cy="27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Arial Black"/>
              </a:rPr>
              <a:t>     </a:t>
            </a: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Побочные продукты мёда</a:t>
            </a:r>
            <a:r>
              <a:rPr b="0" i="1" lang="ru-RU" sz="2400" spc="-1" strike="noStrike">
                <a:solidFill>
                  <a:srgbClr val="002060"/>
                </a:solidFill>
                <a:latin typeface="Arial Black"/>
              </a:rPr>
              <a:t>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 процессе производства мёда возникает четыре основных побочных продукта: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воск, пыльца, маточное молочко и прополис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.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Рисунок 7" descr="C:\Users\111\Desktop\Downloads\293219 (1).jpg"/>
          <p:cNvPicPr/>
          <p:nvPr/>
        </p:nvPicPr>
        <p:blipFill>
          <a:blip r:embed="rId2"/>
          <a:stretch/>
        </p:blipFill>
        <p:spPr>
          <a:xfrm>
            <a:off x="395280" y="2997360"/>
            <a:ext cx="1944720" cy="14396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C:\Users\111\Desktop\картинки мёд\1481631_6rsy2r.jpeg"/>
          <p:cNvPicPr/>
          <p:nvPr/>
        </p:nvPicPr>
        <p:blipFill>
          <a:blip r:embed="rId3"/>
          <a:stretch/>
        </p:blipFill>
        <p:spPr>
          <a:xfrm>
            <a:off x="1835280" y="4653000"/>
            <a:ext cx="2016000" cy="17701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C:\Users\111\Desktop\картинки мёд\1364393257_1381492.png"/>
          <p:cNvPicPr/>
          <p:nvPr/>
        </p:nvPicPr>
        <p:blipFill>
          <a:blip r:embed="rId4"/>
          <a:stretch/>
        </p:blipFill>
        <p:spPr>
          <a:xfrm>
            <a:off x="6588000" y="4437000"/>
            <a:ext cx="2103480" cy="1656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C:\Users\111\Desktop\картинки мёд\800px-Weiselzellen_68a-wiki.jpg"/>
          <p:cNvPicPr/>
          <p:nvPr/>
        </p:nvPicPr>
        <p:blipFill>
          <a:blip r:embed="rId5"/>
          <a:stretch/>
        </p:blipFill>
        <p:spPr>
          <a:xfrm>
            <a:off x="4286160" y="2854440"/>
            <a:ext cx="2376720" cy="158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Рисунок 3" descr="Рисунок3.jpg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 Black"/>
              </a:rPr>
              <a:t>Опыты с мёдом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2700000" y="1557000"/>
            <a:ext cx="6048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Опыт 1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стоящий мёд не скатывается с ложки слишком быстро,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будет стекать непрерывной струйкой,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оследняя капля тянется к ложке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настоящем мёде чёрствый хлеб не размок, а остался чёрствым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Прямоугольник 9"/>
          <p:cNvSpPr/>
          <p:nvPr/>
        </p:nvSpPr>
        <p:spPr>
          <a:xfrm>
            <a:off x="2700360" y="3141720"/>
            <a:ext cx="6048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Опыт 2.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Определение воды в мёд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Рисунок 1" descr=""/>
          <p:cNvPicPr/>
          <p:nvPr/>
        </p:nvPicPr>
        <p:blipFill>
          <a:blip r:embed="rId2"/>
          <a:stretch/>
        </p:blipFill>
        <p:spPr>
          <a:xfrm>
            <a:off x="685800" y="1508040"/>
            <a:ext cx="1798560" cy="214812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1" descr=""/>
          <p:cNvPicPr/>
          <p:nvPr/>
        </p:nvPicPr>
        <p:blipFill>
          <a:blip r:embed="rId3"/>
          <a:stretch/>
        </p:blipFill>
        <p:spPr>
          <a:xfrm>
            <a:off x="685800" y="3954600"/>
            <a:ext cx="1798560" cy="237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Рисунок 2" descr="Рисунок3.jpg"/>
          <p:cNvPicPr/>
          <p:nvPr/>
        </p:nvPicPr>
        <p:blipFill>
          <a:blip r:embed="rId1"/>
          <a:stretch/>
        </p:blipFill>
        <p:spPr>
          <a:xfrm>
            <a:off x="-108000" y="-171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563640" y="549360"/>
            <a:ext cx="5040360" cy="49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Опыт 3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змазать мед на бумажке, и на медовой полоске нарисовать что-нибудь химическим карандашом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сли рисунок станет синим, значит мед настоящий.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Опыт 4.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стакан с медовой водой капнуть несколько капель йода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сли медовая вода станет синей – мед не настоящий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Рисунок 8" descr=""/>
          <p:cNvPicPr/>
          <p:nvPr/>
        </p:nvPicPr>
        <p:blipFill>
          <a:blip r:embed="rId2"/>
          <a:stretch/>
        </p:blipFill>
        <p:spPr>
          <a:xfrm>
            <a:off x="324000" y="3429000"/>
            <a:ext cx="2376360" cy="286848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2" descr=""/>
          <p:cNvPicPr/>
          <p:nvPr/>
        </p:nvPicPr>
        <p:blipFill>
          <a:blip r:embed="rId3"/>
          <a:stretch/>
        </p:blipFill>
        <p:spPr>
          <a:xfrm>
            <a:off x="539640" y="663480"/>
            <a:ext cx="2413080" cy="241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Опыт 5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. Биологическая память мёд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30824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ерем тарелку, положим ложку мёда, заливаем водой чуть больше чем мёд. Слегка болтаем по кругу и увидим появление ячеек на поверхности мёд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то признак натурального мёд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Рисунок 1" descr=""/>
          <p:cNvPicPr/>
          <p:nvPr/>
        </p:nvPicPr>
        <p:blipFill>
          <a:blip r:embed="rId1"/>
          <a:stretch/>
        </p:blipFill>
        <p:spPr>
          <a:xfrm>
            <a:off x="1582560" y="4052880"/>
            <a:ext cx="1776600" cy="210996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2" descr=""/>
          <p:cNvPicPr/>
          <p:nvPr/>
        </p:nvPicPr>
        <p:blipFill>
          <a:blip r:embed="rId2"/>
          <a:stretch/>
        </p:blipFill>
        <p:spPr>
          <a:xfrm>
            <a:off x="4859280" y="4052880"/>
            <a:ext cx="1800360" cy="2157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1T17:10:04Z</dcterms:created>
  <dc:creator>111</dc:creator>
  <dc:description/>
  <dc:language>en-US</dc:language>
  <cp:lastModifiedBy>КАБ 10Н</cp:lastModifiedBy>
  <dcterms:modified xsi:type="dcterms:W3CDTF">2024-02-07T08:32:08Z</dcterms:modified>
  <cp:revision>137</cp:revision>
  <dc:subject/>
  <dc:title>Слайд 1</dc:title>
</cp:coreProperties>
</file>